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EEE-909B-4EDB-B22E-B1087B26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B68-34CB-4DA3-8C4D-FFE6C2DF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73B2-F2FE-4A22-8770-302AA1CA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A01-3B45-4767-A56C-552BB56C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97E-DEEB-4B3A-B3DD-9D1FB67B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709-3AB3-4A9F-AA7C-24CFA67B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36B-98EF-40CD-889D-2156833B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2A1-6D6A-47F8-ADAD-3BC10B57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7B7-960B-49E8-AED0-9D1FCC88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469-A1E8-4293-AA0A-8FECA1CD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C25-D737-402D-80B4-664D3882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B27-AD50-461C-9093-D55B7F15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9F88-B5F7-4422-8AE9-735BBC721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923000" cy="79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355464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458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769644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1536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5105520" cy="905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76201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791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1:49:08Z</dcterms:created>
  <dc:creator>grahams</dc:creator>
  <dc:description/>
  <dc:language>en-US</dc:language>
  <cp:lastModifiedBy>grahams</cp:lastModifiedBy>
  <dcterms:modified xsi:type="dcterms:W3CDTF">2012-04-26T12:33:11Z</dcterms:modified>
  <cp:revision>2</cp:revision>
  <dc:subject/>
  <dc:title>Slide 1</dc:title>
</cp:coreProperties>
</file>